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FF9-295E-428A-ABBA-D4C6A0A7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27F-C5A0-44B8-B2DF-820951D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0C4-9CA7-4416-983E-F1AE68D0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20D-C35B-42C3-80D4-51E65B58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8B24-C5EE-46CF-A1B4-25635412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D819-6803-4F42-A477-5D282A1D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B9D6-8486-4487-A940-1DD3C709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600-ED1D-4C56-A9AA-1A27F067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B63-8847-461C-A8A5-971BA7C3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BA74-2478-490B-8F46-982A2DA8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A9C7-4144-42E2-8842-0E02C8D2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757-869F-4A1B-91E4-9212DCC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4E5C-078C-4C9E-B7ED-C6D3451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6A78-9758-4B50-A8C0-40D33A3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72E-3D28-4DB3-BF13-BC82865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0204-EBBE-4165-AF53-3024FA64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AAA-49A3-4544-B9AD-24060AEA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AA2-D70B-4367-A99E-6966BC71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125-1D18-4491-8382-8D2754DD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0F1-B671-4507-9F9A-42C89EE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775-37B7-406D-A829-314905A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681-825B-42FC-82D3-3BC8F9A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9E5-E715-4DFD-A023-644E20B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9E9-04F8-4FFE-A9EF-FBD44F7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3EE4-3C43-4218-A61A-A9AF6D0242C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E26B-F66B-498F-859E-ECB5A273829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Microsoft Excel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list some examples of workbooks with multiple shee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create one to demonstrate on the smartboard or laptop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050" r="34665" b="71305"/>
          <a:stretch/>
        </p:blipFill>
        <p:spPr>
          <a:xfrm>
            <a:off x="1447920" y="1828800"/>
            <a:ext cx="63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will now have 20 minutes to create two separate workbooks and swap information from one to the 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1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Open Microsoft Excel and create spreadsheet workbooks with the given informa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2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Rename sheets in Workbook 1 and save to My document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3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Copy information from Sheet 1 to Sheet 2 and 3 (Click in grey cell to the left of column A to highlight entire sheet, click on sheet 2, cell A1, click Edit, paste. Click on Sheet 3, cell A1, press En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4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Click on Insert in menu bar, Worksheet, to add another worksheet. Rename new shee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5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Transfer all information from first to second workbook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to work with multiple workbooks and workshee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look at how this skill will be effective in the classroo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re else can we find out how to do different things in Excel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Where else can we find out how to do different things in Excel? 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Help Menu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tomic Learning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What is a workbook?</a:t>
            </a:r>
            <a:endParaRPr b="0" lang="en-US" sz="4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What is a worksheet?</a:t>
            </a:r>
            <a:endParaRPr b="0" lang="en-US" sz="4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How can I work with more than one at the same time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several worksheets in the same workbook.  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it to work with the same data in different contexts at the same tim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more than one workbook at the same tim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might we use the same data to show different outcomes or relationships in a spreadshee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000"/>
            </a:b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4167" t="40096" r="41668" b="11216"/>
          <a:stretch/>
        </p:blipFill>
        <p:spPr>
          <a:xfrm>
            <a:off x="457200" y="1295280"/>
            <a:ext cx="830592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Workbook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Workshee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orkbook contains up to 255 worksheets within the same work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dd or remove sheets from a 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information from sheet to sheet, or book to 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Navigating Between Workshee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trl + PgDn                   next sheet              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trl + PgUp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evious sheet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b scrolling arr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sheet ta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124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7339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4T10:11:39Z</dcterms:modified>
  <cp:revision>8</cp:revision>
  <dc:subject/>
  <dc:title>Workshop Title</dc:title>
</cp:coreProperties>
</file>